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6F8-FE02-4835-AE12-59F0BAB3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B31-7BC6-4901-BA54-CE3B8F7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9B9-FDB6-4028-BC8E-CC676D14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A8F-9005-41D7-927C-DA45091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BB0-94E0-46B4-9F04-D9FEB710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461-AC9A-4167-A618-F3A6AAE4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796-DC17-4D94-B86F-7725B43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62E-E18A-4231-AF5D-54AD8C29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1E2-8AD2-41A4-8F2C-61B5A3E1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D12-968A-45A7-A600-1652740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15D-D9D3-4CB5-93B1-2885FD2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C26-E4BB-4FEE-944C-9CC3919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5A1-E4FE-4B62-BA4B-252DD2AC5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28.tinypic.com/1kemp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/imgres?imgurl=http://sandrarose.com/images7/jlopez400.jpg&amp;imgrefurl=http://sandrarose.com/2009/06/24/another-celebrity-clothing-line-bites-the-dust-this-time-its-j-lo/&amp;usg=__v2avMHGQzJBtI3uAPDv102mpiRw=&amp;h=409&amp;w=400&amp;sz=76&amp;hl=en&amp;start=20&amp;itbs=1&amp;tbnid=97zo7qeZhBs90M:&amp;tbnh=125&amp;tbnw=122&amp;prev=/images%3Fq%3Ddetailed%2Bcelebrity%2Bclothes%26gbv%3D2%26hl%3Den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dia-server.com/news-images/beyonce-to-promote-her-fashion-clothes-19371.jpeg&amp;imgrefurl=http://www.india-server.com/news/beyonce-to-promote-her-fashion-clothes-19371.html&amp;usg=__7xAIPtfuo71pUkV9O5hHfRnm38M=&amp;h=966&amp;w=770&amp;sz=152&amp;hl=en&amp;start=1&amp;itbs=1&amp;tbnid=ot_n_4TZCRTJ7M:&amp;tbnh=148&amp;tbnw=118&amp;prev=/images%3Fq%3Dbeyonce%2527s%2Bdetailed%2Bclothes%26gbv%3D2%26hl%3Den%26sa%3DX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/imgres?imgurl=http://photos.posh24.com/p/541758/l/lady_gaga/lady_gagas_craziest_outfits.jpg&amp;imgrefurl=http://www.posh24.com/lady_gaga/lady_gagas_craziest_outfits&amp;usg=__05H2UfqcqxzqXd6yRQ9OasneO7U=&amp;h=567&amp;w=404&amp;sz=38&amp;hl=en&amp;start=3&amp;itbs=1&amp;tbnid=bk73VzdqjOojmM:&amp;tbnh=134&amp;tbnw=95&amp;prev=/images%3Fq%3Dlady%2Bgaga%2527s%2Bdetailed%2Bclothes%26gbv%3D2%26hl%3Den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supplierlist.com/photo_images/44767/bcbg_clothingdvf_silk_dressdesigner_clothing_.jpg&amp;imgrefurl=http://www.supplierlist.com/b2b/products/eling/p-0/showroom.htm&amp;usg=__9aF92x5unUL8dzqd5efnXWXgOQU=&amp;h=512&amp;w=370&amp;sz=28&amp;hl=en&amp;start=4&amp;itbs=1&amp;tbnid=luWjaNi0oSpNEM:&amp;tbnh=131&amp;tbnw=95&amp;prev=/images%3Fq%3Dsilk%2Bclothing%26gbv%3D2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image38.webshots.com/39/7/71/38/2450771380093489037xQIMOy_ph.jpg&amp;imgrefurl=http://entertainment.webshots.com/photo/2450771380093489037xQIMOy&amp;usg=__2XU1EPbrKn7eQbAJOe1RF33OzbI=&amp;h=800&amp;w=342&amp;sz=76&amp;hl=en&amp;start=19&amp;itbs=1&amp;tbnid=RUMvUAQuYZkOpM:&amp;tbnh=143&amp;tbnw=61&amp;prev=/images%3Fq%3Dsilk%2Bclothing%26gbv%3D2%26hl%3Den%26sa%3DX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img2.photographersdirect.com/img/15324/wm/pd836455.jpg&amp;imgrefurl=http://www.photographersdirect.com/buyers/stockphoto.asp%3Fimageid%3D836455&amp;usg=__Eoy66SubDUUgepEWxTyUjzHU5T0=&amp;h=499&amp;w=332&amp;sz=38&amp;hl=en&amp;start=7&amp;itbs=1&amp;tbnid=5rBPGHUbrHJx0M:&amp;tbnh=130&amp;tbnw=86&amp;prev=/images%3Fq%3Dcolorful%2Btops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"/>
              </a:rPr>
              <a:t>Elements of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"/>
              </a:rPr>
              <a:t>By: Simone Burr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ilhouette -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879400">
            <a:off x="380880" y="17524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2500200" cy="41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514800">
            <a:off x="5746680" y="1700280"/>
            <a:ext cx="312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8680" cy="4016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Bouff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2476440" cy="371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074400">
            <a:off x="5289120" y="109656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3733920"/>
            <a:ext cx="2361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Bu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022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2438280" cy="394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ictorian bustle dress"/>
          <p:cNvPicPr/>
          <p:nvPr/>
        </p:nvPicPr>
        <p:blipFill>
          <a:blip r:embed="rId4"/>
          <a:stretch/>
        </p:blipFill>
        <p:spPr>
          <a:xfrm>
            <a:off x="5638680" y="2743200"/>
            <a:ext cx="2527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1280" y="1523880"/>
            <a:ext cx="211464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721800">
            <a:off x="3674880" y="1996560"/>
            <a:ext cx="191448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1905120" y="3581280"/>
            <a:ext cx="1895400" cy="272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3962520"/>
            <a:ext cx="189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"/>
              </a:rPr>
              <a:t>S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1026400">
            <a:off x="636480" y="166176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2193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2529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09680" y="327672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4038480" cy="202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102800">
            <a:off x="3207960" y="1892160"/>
            <a:ext cx="136044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251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ex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205092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665800">
            <a:off x="3428640" y="1218960"/>
            <a:ext cx="220968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05120" y="3733920"/>
            <a:ext cx="342900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562720" y="1066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53:27Z</dcterms:created>
  <dc:creator>student</dc:creator>
  <dc:description/>
  <dc:language>en-US</dc:language>
  <cp:lastModifiedBy>student</cp:lastModifiedBy>
  <dcterms:modified xsi:type="dcterms:W3CDTF">2010-02-12T14:45:12Z</dcterms:modified>
  <cp:revision>3</cp:revision>
  <dc:subject/>
  <dc:title>Slide 1</dc:title>
</cp:coreProperties>
</file>